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714-29C6-4FCC-BBB6-BACD967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528-FFE9-4624-828A-469FA99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9C170-FAE4-4618-9EC6-2155FB44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04A4-8719-4BCA-BAD0-D2FB9A3A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016CE-03FF-4DAF-9595-4313337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4C089-E272-416A-8359-6FB76247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00A33-D6E7-4F21-AB39-CCDC4EB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3FF34-C8A6-447E-93E4-6C813D1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054D-6084-4E33-82D1-932B30D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30425-C7D6-49BE-A5C6-5903EA9A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09F0-B973-4D70-8F5A-4AD1B9B2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ABDBE-7001-4510-A3EF-6766165C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51B-4EE5-40CE-AA91-FCAC07CE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FB5EA-D085-4B9E-A82F-11DF1C0F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36624-222B-40FD-9BEA-F861294C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7AF25-9391-49BC-83E8-75828CA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65925-5531-4D85-B291-519A0C0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81A8-6410-45B3-A3F9-EC87A195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FB0A0-FF6C-4FEE-B91D-2448E3F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46E1A-2CA4-4CB3-B673-BD01F91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D0598-9C28-4C47-9A94-095B4DB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E4345-551F-4B83-9FE2-C33DAF0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B3E6-21B1-440F-93E8-5B761E97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F4B-5EAB-4DC0-8F81-36529FBA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DE3E-4AD8-4A5C-BFD0-9D6130D8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97E58-3891-4C70-B09F-01440B90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F5C08-6718-4E9E-A23E-1BEE668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0E2DE-B0D1-4819-A105-BE8705A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F8458-4829-46F2-8C08-92763DAA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0612B-EC31-4ABB-81C9-D363143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B7BF-BF8F-4087-B4B4-D896A08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F24F9-9D78-460D-A5B6-EA44730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A55F9-9B6D-4F1F-A2E8-240AA50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51D75-B7D2-44E5-9200-D633043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7911-E5D0-4A8F-B905-8ADB5005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1DEB-6A0F-4241-90E0-0337558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7BCE5-6E3E-4E3A-9C0D-9F48D5D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7D31E-CDF5-4ECE-B6ED-361B85AC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EEDF3-C8BC-4B54-8CCA-D5D1C058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41427-DF59-43EA-A992-0B33C856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56C1F-C188-4335-87BC-6C56521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86A50-0731-42D2-B198-0DB2EF7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05512-655B-4BA2-B419-E822A28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A3EC3-F035-4A35-AB75-A994579E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5C65F-3A00-4D51-A4DC-50C5C2D9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4228-65D8-4CB9-9CE4-193883E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60282-A5A6-4D7E-B5BF-38EF3BC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0ABCC-D8A3-4FF1-9F85-D8A6C43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40331-228B-4F87-A4FF-93F7E0E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9CA94-0433-406D-A733-F9616A90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55395-DA78-4B3D-AE7B-0C361611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9E472-F397-41BE-8B87-5DBB65C1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79862-6CBE-47C6-B9B7-D5E3236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21D7C-7D36-4507-BCEF-F82DDCD4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1B0AF-384E-44EC-9729-53D44CC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42F73-9657-4EFC-852D-FAF5CAAC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D23F-306A-443B-9B6A-0314C097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1AA6C-1FC4-4497-A0FE-529E02D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ECB08-59D0-48E3-B4E1-62EBDB5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5FFED-05F8-47EB-B74C-C1FB489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F0F93-5F2F-48C5-95A1-F39F3523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E5CFE-9663-4FCA-BDEB-6A12576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D0D04-0D77-4E3C-B825-321EFC0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D9C69-FE44-4230-B2A3-63171B91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C402F-B097-4801-A0DC-BBB9D137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F73DA-96EF-448A-BF73-DD4D169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26E14-5D82-4BAE-A14F-627A288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BB6-E13F-4F28-84EA-91A1C81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6C57F-0E99-45BC-B8A1-0788091C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B32BA-31B8-4BF7-BFF4-A39DD67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F1DC5-98BA-4BFB-9E4F-7539255E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33D88-BE3F-4238-B085-9FDBD5A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D8104-5AD6-487D-88D3-9C628BD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67ACD-7538-4F19-A56A-F31473A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6BDC4-982A-456A-A2A8-1D69E34E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35BAA-ADC5-4D15-8E96-9203DDD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6435B-62AF-4CFC-8EBD-D9168E7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D49DC-AC6F-477D-AA39-6E20A797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383-12D9-4071-883E-A96303DB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09921-CE1D-4595-ACF6-E53E3C7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C63DB-EB42-4882-831B-009EE86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AD7C2-89C1-48B4-920F-835F73D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5B698-5D9B-4BE3-9924-A350505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52B4B-BBCB-455F-A705-EF8D14A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A1F9C-53A0-43B4-ADBD-1B39209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98C1C-712E-48B1-96EA-4DB21D0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160D1-30B7-409C-A07F-45ACC75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EC63D-1F6E-4356-9EE8-A37403D0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D81C3-3D09-429B-BE36-367916B2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0282-7BA7-4080-8297-EE5498F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87DCB-E5B5-4AD3-A9AC-56BEB5DD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2C74E-8E85-4CA9-8340-94C899E4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BF995-2275-4002-90D3-115F741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D2CF4-B799-4915-94D9-4490FE7B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81518-9E01-4770-B1B0-8D4042E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63AB9-4B35-4D52-8702-C8684225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C552E-E8D4-4CEA-9AF0-C34F6D8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94B41-4907-483B-B4A6-46BCCBE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97CB6-2783-4396-9B48-052D26A1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C946C-C141-496E-A73B-F11F60D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F7AA-2A42-4B40-8484-66D0B55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FD553-9AF6-40F8-A2FF-81A500B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6B476-17ED-4194-910E-026DF04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2A38A-C953-4268-BDEC-E39DB556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83B17-027C-4626-9CF2-B14DE58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D53EB-0BC9-4617-8F9E-51E0FDA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B1FEE-6B54-4B37-8083-CAA3468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7F0F3-607B-4623-B1B9-5DAD891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DAD32-F4E2-4048-94B8-F7757B1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A693B-37AD-41CF-B7B6-FCD5EA4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3EC5C-BFB4-4704-9EE7-3E262CD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740-C6EB-4AF2-B175-219EBA47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1E5C-C475-477F-B0A0-DF34C24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E63B8-81EB-4073-ADAB-CB0BDBA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1A874-8D7B-4C9E-9ABA-D2D940F1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0FA30-C072-42D8-AEE4-C4DA2F6A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14B9D-F75E-47D7-A79B-C8BB0DE5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4A33D-EF0F-407F-875E-A688BFEB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C11BC-88C1-4F15-A3B4-392C97E8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FA39B-7BA3-4741-9B79-E6BED610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22B4A-4ADE-4CFA-9646-573CB70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7B747-DE76-430D-9BAD-66F729C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CBC41-B6F9-41A8-8A50-69DC2B69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E22-35A0-4296-B086-FE94A39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AA03D-C13F-404E-BDA7-BCB4F20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95EF9-131F-4524-9B59-875EE32E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920BA-86CF-4DEC-9F22-E79D8B4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03CD8-6502-480E-8524-D9746981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A1DD4-C0B6-4A1E-81C1-A648861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998C4-52D3-46C0-B8DB-3EC1274F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C92AA-7C52-454B-A7FA-519A9372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50C87-5E07-4389-9041-29F882B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6C845-F0B3-484D-AFAA-FE4C5F3C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88B8B-7BFA-4022-A03C-1E949A85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FCC-666B-4F8A-A6AC-891B0252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82B5B-E7A9-4D94-94CC-4CF5712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D594E-BD3D-4E93-B0EC-C8B1CF1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07BED-2D82-4F34-B970-6F785E9F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BC1D8-3DDC-47A0-8C21-B9A1238C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CE0C0-9B6E-47D4-A4CB-6EFB7F5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759A2-67DE-455F-8952-0E45685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B2DC2-DCB5-41AD-A35D-F42AFF1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77968-B227-4658-A8FB-51FA206B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00202-9545-49E6-956B-F19988F2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72FF4-3BCA-4DEA-A751-C5EACBA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84E-A956-45B1-90C0-CDFA4F74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1FE95-2991-41AC-AC04-9265AD6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C8592-C7D4-4508-A370-093C9522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1F9D1-3AE8-4C4E-9E75-DF938C8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4E669-2FA8-43C6-AA1A-1A65261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6094B-50CC-4A1A-9AD3-01892D0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C75D6-5BC9-4286-9271-1244EE6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36B0B-FAA5-4E68-89C5-DFA9CE8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EE863-282D-4EFC-B4BF-6A6A045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2E1DF-07D3-4768-8CAD-6469AC13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45668-E5D4-44A2-A982-8C76CC4C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4E89-EEF2-458B-B01D-61138770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EF6A2-52AB-4AFE-947D-FD4CC5C2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7AD2C-42DB-4023-974F-DD8AD1A5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A0206-207F-4A1D-B658-C58A4D7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50880-32AA-4FFB-A927-842E969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C12BC-EC7F-41BF-BE90-BC309F8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856B0-38A9-4CCE-B14C-45187B3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0CFFA-E227-452D-86A8-57427F6E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874A8-B608-4260-929C-35A3FC8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0E34E-511E-462A-9DA5-9919E8B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973C6-E310-4385-92B1-66A4211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4B2F-454C-406D-95C5-ADF280F6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C88C9-37ED-4057-869E-7BE5381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DFA11-32A9-447C-8178-ED9D0570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2AF08-C174-4013-967C-3756A7F5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302D-F52B-4255-A325-AA89508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B676-F2E4-4ACF-AB78-E7A847DC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CA65-4749-47E6-886F-76D3B74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5323-1E57-4497-B0E6-A0B287D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8B8-6F1E-4BAF-9C1E-84CBB82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2D86-C943-4BDF-B04F-085C304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7E65-9E07-461C-A765-F900E81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324D-0125-4641-AD6A-2D96CA7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EB0F-3B45-42A4-9599-60B83B3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A26D-C759-40CA-B045-952AD8B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EEE5-D912-4FF1-B517-B19DA94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CB0B-B00B-4D93-9C78-BD17B10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724F-FC80-4E05-A10C-97A62BD1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9CA0-E89C-404B-8B49-257ED34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7C4FB-BAF2-4C79-817C-DDDE8F5D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C3C-279A-4A9D-8ECF-B78D1542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81D5-C87C-4549-BEDA-E2E5D48C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B402-A4E7-4820-908B-572665D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47BB-E515-46C6-9286-566AAEF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F38D-7117-4925-A039-1EE5858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F8CD-D180-41D3-9561-6F9D5E0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8AB7-CC70-4D02-9D76-044CE70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027D-F1E1-4B6D-B773-143B372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85B4-150D-402F-BE86-056B75A3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C155-8DE3-48A2-AE10-20A62F41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267D-E08C-40E1-99F6-FBD5CA8E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7DA-C62E-4376-ADC5-99F7DEF5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2394-30BA-4EC6-BC91-1312C62D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ACFE-7C10-4478-B749-99F21CE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64BD-83D4-4F6D-92B1-6DA1676A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B40F-9DBE-45D9-9BF7-C901C1F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BFD1-6623-408B-83FB-F1503A8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6327-FA4B-40DC-B64F-C0D2393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E5FE-8469-4A80-8F86-5CC2F04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9D80-D8A0-47BC-90FE-4B52C95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58F3-165D-496A-8D20-56F8D446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DEA7-5CD4-4FB4-8CE2-0CACF959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B82-3F2D-49DB-80B6-8A455CDF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AA6D-56C0-4C9A-8A1D-9B606928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92735-1059-4BE8-8CBD-B82F0D4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3449-993C-4FE2-951E-09C7127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3EE4D-90C3-45C8-A158-A9E0D6F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EDA1-DABB-4E3E-9990-A2FC001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C902-310A-4AC0-93D7-05EC514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3DB9-A848-4F2A-B02B-A5FD90F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37C9-4FAC-4383-A3CE-6590798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3D245-DB52-4CE4-A239-199112A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D823-003E-46C8-901E-ADEA097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A75-81B3-4896-99F6-7FC14F8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F2AA-F607-4BFB-8361-B6141035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6DD2-1D4A-4380-A675-2CACADD9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E18D-BA06-4F7E-A19B-3E755DE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EAEF-00C8-427C-8C10-7B46A116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99CC-AC5E-4FC3-BA0C-2B17466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F527-D062-44FA-89F6-D96EA90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D2466-69C8-4113-8C97-3CCFF0F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E63D0-73F2-4497-A371-ADB9A06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1E6FF-DAB4-40A5-B3D9-108D4E7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52D9-9A6B-423B-B690-DF4443D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3F2-C3B6-448F-A33E-1C58D52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BEA5-E510-4589-BCE3-6958550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AFDF3-DD98-4492-90A6-A4CDBA3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F7B3-51F7-46DD-AFDE-1B2659E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1AA67-8633-4440-A58E-2D150DCB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0032-3D0A-456F-8179-F4F37582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D416-350D-4B92-80F1-5458551E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7E4AC-0BE2-4181-A629-14BEF42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7638-D1F7-47AD-BA60-45EF4244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AF501-CC67-481E-9B06-C1C8E9C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438A-FA42-4299-AA9E-BA69D8E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5B2-6FD6-469D-BA3A-E2B5896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27369-5BB7-41AB-9AA3-003AB96F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C5CB-7CFA-448D-B4D7-224D480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F345-BEE4-414D-B2AA-53E351C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11CB-38D0-4347-AA9C-BFA7880C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246E-6726-40D2-B610-B3FC875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E978-3052-4167-B21C-0DA5DA8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02D4-8260-4A11-B9AA-AD1A3188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70E45-A0F2-4442-968A-7DADE755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8BCDF-461C-4545-9C26-AADD5DE0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504D-151E-4F89-9E6E-ACBA203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E407-E6CD-4BD2-813E-339AEC569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4D72-9434-4C8F-AAE5-0F269F292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3F3-DF48-4E1D-AD90-7586E8B97E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A4E7-B1AA-42E7-B506-693FA212C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90B3-141B-4F31-8556-313D57FBE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E01E-836F-43B2-86D6-77CF1C6E3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0D2-D723-4A1A-A2B2-5646BD528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33A-AA8D-493A-817A-DFF45AD32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87A3-66E9-4633-95BE-5669D95035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97B-B664-4959-8DD8-6D1206956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D713-4AD2-4CFB-92DD-E9A2A255E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F30-E9BE-4068-B245-8D5FFAA26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CD9-22D0-4654-81D9-399E91561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5556-D4AE-4519-90AA-3BAEB123EA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352-EEE6-43E6-8790-455567295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2DB0-ED6D-40ED-8A2B-9CEF11BDE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64A-C4BD-412C-A826-5037ABD03B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C98-C8A9-4C82-B679-34EEA11DF0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E95-8261-45C9-A034-2A5E88919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933F-9508-4195-B8DB-F6A9E5966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606-7632-4F94-A91E-3F517F02E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454-0FCD-4D9C-A934-739CADDB2B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9540-18A5-4E9D-8191-330FF698F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A0EF-01A5-4E62-9932-4F22F40CE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02F-E00D-48D5-943B-1DC2A3088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AB5B-08BF-497A-8DBA-0D59BF2A2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390-580B-482A-92C1-81C374053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538A-217F-43D4-B61E-8EEEEE87C5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9318-EB24-4EA0-9A42-FF9EF5878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12A-76FF-470F-B13E-85B75E270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A06-E2F3-4515-BCBB-8025D27D0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822-FB27-468F-B8AB-55D9B8777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2744-3515-4D0A-B091-C8910B3BA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4F33-1912-43F4-80CA-7BBE3C12C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589C-A218-4EAF-9D0D-0C475E8EB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B294-EACB-4CCA-9652-A5470CDF13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B8A9-FC8B-4BAC-83EB-2F20075F5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2A5-F0A6-4188-B99B-6579B67FD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F77-98A5-4A6F-A1AC-A6C8E39E1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9046-689D-439C-B90C-4BF72C33F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1760" y="1844640"/>
            <a:ext cx="2400480" cy="7142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04920" y="3770280"/>
            <a:ext cx="8534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70658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315200" cy="2143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70659" descr=""/>
          <p:cNvPicPr/>
          <p:nvPr/>
        </p:nvPicPr>
        <p:blipFill>
          <a:blip r:embed="rId2"/>
          <a:stretch/>
        </p:blipFill>
        <p:spPr>
          <a:xfrm>
            <a:off x="157320" y="3413160"/>
            <a:ext cx="8829360" cy="22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8472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284720" y="19303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236000" y="13129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877080" y="19749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979640" y="3990960"/>
            <a:ext cx="639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1835280" y="4653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4932360" y="3962520"/>
            <a:ext cx="639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4932360" y="4624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8035920" y="3990960"/>
            <a:ext cx="9288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74072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743040" y="1063800"/>
            <a:ext cx="7657920" cy="553392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252360" y="44280"/>
            <a:ext cx="3240000" cy="9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738360" y="1914480"/>
            <a:ext cx="7667280" cy="3029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484360" y="194472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2484360" y="2565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2627280" y="31989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556000" y="3789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2627280" y="443700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509760" y="1685880"/>
            <a:ext cx="8124480" cy="3486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0930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8228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98764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50324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6156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987640" y="455292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28680" y="1185840"/>
            <a:ext cx="8486640" cy="4486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5148360" y="20034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219640" y="260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32418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219640" y="38466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207040" y="44798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5278320" y="50846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671400" y="1828800"/>
            <a:ext cx="7801200" cy="3200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651640" y="4205160"/>
            <a:ext cx="28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709560" y="985680"/>
            <a:ext cx="7724880" cy="4886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091120" y="524340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7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3867120" cy="648000"/>
          </a:xfrm>
          <a:prstGeom prst="rect">
            <a:avLst/>
          </a:prstGeom>
          <a:ln w="0">
            <a:noFill/>
          </a:ln>
        </p:spPr>
      </p:pic>
      <p:grpSp>
        <p:nvGrpSpPr>
          <p:cNvPr id="951" name="组合 54279"/>
          <p:cNvGrpSpPr/>
          <p:nvPr/>
        </p:nvGrpSpPr>
        <p:grpSpPr>
          <a:xfrm>
            <a:off x="1332000" y="755640"/>
            <a:ext cx="6105600" cy="5991120"/>
            <a:chOff x="1332000" y="755640"/>
            <a:chExt cx="6105600" cy="5991120"/>
          </a:xfrm>
        </p:grpSpPr>
        <p:pic>
          <p:nvPicPr>
            <p:cNvPr id="952" name="图片 54276" descr=""/>
            <p:cNvPicPr/>
            <p:nvPr/>
          </p:nvPicPr>
          <p:blipFill>
            <a:blip r:embed="rId2"/>
            <a:stretch/>
          </p:blipFill>
          <p:spPr>
            <a:xfrm>
              <a:off x="1332000" y="755640"/>
              <a:ext cx="6105600" cy="59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图片 54278" descr=""/>
            <p:cNvPicPr/>
            <p:nvPr/>
          </p:nvPicPr>
          <p:blipFill>
            <a:blip r:embed="rId3"/>
            <a:stretch/>
          </p:blipFill>
          <p:spPr>
            <a:xfrm>
              <a:off x="4487760" y="1450800"/>
              <a:ext cx="863640" cy="52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4" name="直接连接符 54280"/>
          <p:cNvSpPr/>
          <p:nvPr/>
        </p:nvSpPr>
        <p:spPr>
          <a:xfrm>
            <a:off x="4500720" y="1844640"/>
            <a:ext cx="792000" cy="446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281"/>
          <p:cNvSpPr/>
          <p:nvPr/>
        </p:nvSpPr>
        <p:spPr>
          <a:xfrm flipV="1">
            <a:off x="4500720" y="1700280"/>
            <a:ext cx="863280" cy="1657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4282"/>
          <p:cNvSpPr/>
          <p:nvPr/>
        </p:nvSpPr>
        <p:spPr>
          <a:xfrm>
            <a:off x="4529160" y="4869000"/>
            <a:ext cx="792000" cy="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4283"/>
          <p:cNvSpPr/>
          <p:nvPr/>
        </p:nvSpPr>
        <p:spPr>
          <a:xfrm flipV="1">
            <a:off x="4500720" y="3213000"/>
            <a:ext cx="863280" cy="3168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295200" y="919080"/>
            <a:ext cx="8553600" cy="5019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534348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1:2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